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wind.wav" ContentType="audio/x-wav"/>
  <Override PartName="/ppt/media/chimes.wav" ContentType="audio/x-wav"/>
  <Override PartName="/ppt/media/image7.wmf" ContentType="image/x-wmf"/>
  <Override PartName="/ppt/media/type.wav" ContentType="audio/x-wav"/>
  <Override PartName="/ppt/media/image14.gif" ContentType="image/gif"/>
  <Override PartName="/ppt/media/image9.wmf" ContentType="image/x-wmf"/>
  <Override PartName="/ppt/media/image5.jpeg" ContentType="image/jpeg"/>
  <Override PartName="/ppt/media/image18.wmf" ContentType="image/x-wmf"/>
  <Override PartName="/ppt/media/image4.png" ContentType="image/png"/>
  <Override PartName="/ppt/media/image12.wmf" ContentType="image/x-wmf"/>
  <Override PartName="/ppt/media/click.wav" ContentType="audio/x-wav"/>
  <Override PartName="/ppt/media/image19.gif" ContentType="image/gif"/>
  <Override PartName="/ppt/media/image17.wmf" ContentType="image/x-wmf"/>
  <Override PartName="/ppt/media/image16.wmf" ContentType="image/x-wmf"/>
  <Override PartName="/ppt/media/image2.wmf" ContentType="image/x-wmf"/>
  <Override PartName="/ppt/media/image20.png" ContentType="image/png"/>
  <Override PartName="/ppt/media/image15.gif" ContentType="image/gif"/>
  <Override PartName="/ppt/media/image13.wmf" ContentType="image/x-wmf"/>
  <Override PartName="/ppt/media/explode.wav" ContentType="audio/x-wav"/>
  <Override PartName="/ppt/media/image10.wmf" ContentType="image/x-wmf"/>
  <Override PartName="/ppt/media/image11.wmf" ContentType="image/x-wmf"/>
  <Override PartName="/ppt/media/image3.gif" ContentType="image/gif"/>
  <Override PartName="/ppt/media/image6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91E-AA11-4C72-92AA-2DC25F9B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B2A-BD8E-4089-8C75-EE6D7A9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97D-9170-49C6-8E1B-25D1F597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1CA-5389-4A32-860F-55ECB51C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AD98-920A-44A3-A91B-E61F8638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A50B-82A6-4E49-AD63-68BC0C0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8FFA-7BC6-4847-855F-FC2999D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391-E5BC-4C05-8E9F-EE8EA11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D595-C163-4873-A175-75899416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CBBC-93DE-49FA-9597-56253F6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B354-9ABB-4B4B-9C8E-D2C76A0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255-4F4B-48C0-8F99-71F8B15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3DCC-10B6-4D03-99A5-2153890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8C2B-8D9F-4FD7-A544-5071638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A319-68DB-4C84-AD17-ACEE3CF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4A7-E9CF-4790-88D1-FA936FF4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7CA-80F6-4BFB-8376-BDFE781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E7B-8914-4B11-86D5-8D4A2E95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044-B838-4F3C-8CEE-47627462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C98-B6F4-4779-A82A-27DD831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72D-BC9F-4689-8B9E-71D72B2B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DC0-9546-4310-9AEE-C939118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01C-106C-475D-B2DF-3421D59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D00-9BF9-4037-9EE1-F5258D5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475-53D0-4DF7-AE40-26FCDE7B86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D1C3-C021-4A08-8D38-9D6D7DA0894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hyperlink" Target="http://images.google.com./imgres?imgurl=www.clse.tpc.edu.tw/cartoon/maruko4.gif&amp;imgrefurl=http://www.clse.tpc.edu.tw/page_1.htm&amp;h=489&amp;w=340&amp;prev=/images%3Fq%3D%25E5%258D%25A1%25E9%2580%259A%25E4%25BA%25BA%25E7%2589%25A9%26svnum%3D10%26hl%3Dzh-CN%26lr%3D%26ie%3DUTF-8%26oe%3DUTF-8%26sa%3D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285228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3.1.2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</a:rPr>
              <a:t>等式的性质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743200" y="23623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66920" y="236232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3623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24382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733920" y="1676520"/>
            <a:ext cx="1371600" cy="2208240"/>
            <a:chOff x="3733920" y="1676520"/>
            <a:chExt cx="1371600" cy="2208240"/>
          </a:xfrm>
        </p:grpSpPr>
        <p:sp>
          <p:nvSpPr>
            <p:cNvPr id="248" name=""/>
            <p:cNvSpPr/>
            <p:nvPr/>
          </p:nvSpPr>
          <p:spPr>
            <a:xfrm rot="10789200">
              <a:off x="4341240" y="1750680"/>
              <a:ext cx="230040" cy="2133720"/>
            </a:xfrm>
            <a:custGeom>
              <a:avLst/>
              <a:gdLst>
                <a:gd name="textAreaLeft" fmla="*/ 50400 w 230040"/>
                <a:gd name="textAreaRight" fmla="*/ 179640 w 230040"/>
                <a:gd name="textAreaTop" fmla="*/ 469080 h 2133720"/>
                <a:gd name="textAreaBottom" fmla="*/ 166464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33920" y="1676520"/>
              <a:ext cx="1371600" cy="838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462560" y="1766520"/>
              <a:ext cx="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2408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81952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35268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81952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209680" y="40226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25780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+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+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743200" y="23623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3600" y="236232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236232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24382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733920" y="1676520"/>
            <a:ext cx="1371600" cy="2208240"/>
            <a:chOff x="3733920" y="1676520"/>
            <a:chExt cx="1371600" cy="2208240"/>
          </a:xfrm>
        </p:grpSpPr>
        <p:sp>
          <p:nvSpPr>
            <p:cNvPr id="274" name=""/>
            <p:cNvSpPr/>
            <p:nvPr/>
          </p:nvSpPr>
          <p:spPr>
            <a:xfrm rot="10789200">
              <a:off x="4341240" y="1750680"/>
              <a:ext cx="230040" cy="2133720"/>
            </a:xfrm>
            <a:custGeom>
              <a:avLst/>
              <a:gdLst>
                <a:gd name="textAreaLeft" fmla="*/ 50400 w 230040"/>
                <a:gd name="textAreaRight" fmla="*/ 179640 w 230040"/>
                <a:gd name="textAreaTop" fmla="*/ 469080 h 2133720"/>
                <a:gd name="textAreaBottom" fmla="*/ 166464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33920" y="1676520"/>
              <a:ext cx="1371600" cy="838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462560" y="1766520"/>
              <a:ext cx="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2408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281952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335268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281952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209680" y="402264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696080" y="1828800"/>
            <a:ext cx="1371600" cy="1312920"/>
            <a:chOff x="7696080" y="1828800"/>
            <a:chExt cx="1371600" cy="1312920"/>
          </a:xfrm>
        </p:grpSpPr>
        <p:sp>
          <p:nvSpPr>
            <p:cNvPr id="292" name=""/>
            <p:cNvSpPr/>
            <p:nvPr/>
          </p:nvSpPr>
          <p:spPr>
            <a:xfrm>
              <a:off x="7696080" y="2286000"/>
              <a:ext cx="1066680" cy="685800"/>
            </a:xfrm>
            <a:prstGeom prst="leftArrowCallout">
              <a:avLst>
                <a:gd name="adj1" fmla="val 25002"/>
                <a:gd name="adj2" fmla="val 25000"/>
                <a:gd name="adj3" fmla="val 25923"/>
                <a:gd name="adj4" fmla="val 66673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72400" y="182880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04920" y="1828800"/>
            <a:ext cx="1218600" cy="1312920"/>
            <a:chOff x="304920" y="1828800"/>
            <a:chExt cx="1218600" cy="1312920"/>
          </a:xfrm>
        </p:grpSpPr>
        <p:sp>
          <p:nvSpPr>
            <p:cNvPr id="295" name=""/>
            <p:cNvSpPr/>
            <p:nvPr/>
          </p:nvSpPr>
          <p:spPr>
            <a:xfrm>
              <a:off x="533160" y="2209680"/>
              <a:ext cx="990360" cy="685800"/>
            </a:xfrm>
            <a:prstGeom prst="rightArrowCallout">
              <a:avLst>
                <a:gd name="adj1" fmla="val 25002"/>
                <a:gd name="adj2" fmla="val 25000"/>
                <a:gd name="adj3" fmla="val 24068"/>
                <a:gd name="adj4" fmla="val 66667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4920" y="1828800"/>
              <a:ext cx="1142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400800" y="2057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266688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789200">
            <a:off x="4341240" y="1750680"/>
            <a:ext cx="230040" cy="2133720"/>
          </a:xfrm>
          <a:custGeom>
            <a:avLst/>
            <a:gdLst>
              <a:gd name="textAreaLeft" fmla="*/ 50400 w 230040"/>
              <a:gd name="textAreaRight" fmla="*/ 179640 w 23004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1676520"/>
            <a:ext cx="1371600" cy="838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140720" y="1764720"/>
            <a:ext cx="290880" cy="165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57560" y="31240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57960" y="24382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24382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21000000">
            <a:off x="2209680" y="335268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31240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216160" y="40384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96080" y="1828800"/>
            <a:ext cx="1371600" cy="1312920"/>
            <a:chOff x="7696080" y="1828800"/>
            <a:chExt cx="1371600" cy="1312920"/>
          </a:xfrm>
        </p:grpSpPr>
        <p:sp>
          <p:nvSpPr>
            <p:cNvPr id="320" name=""/>
            <p:cNvSpPr/>
            <p:nvPr/>
          </p:nvSpPr>
          <p:spPr>
            <a:xfrm>
              <a:off x="7696080" y="2286000"/>
              <a:ext cx="1066680" cy="685800"/>
            </a:xfrm>
            <a:prstGeom prst="leftArrowCallout">
              <a:avLst>
                <a:gd name="adj1" fmla="val 25002"/>
                <a:gd name="adj2" fmla="val 25000"/>
                <a:gd name="adj3" fmla="val 25923"/>
                <a:gd name="adj4" fmla="val 66673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72400" y="182880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04920" y="1828800"/>
            <a:ext cx="1218600" cy="1312920"/>
            <a:chOff x="304920" y="1828800"/>
            <a:chExt cx="1218600" cy="1312920"/>
          </a:xfrm>
        </p:grpSpPr>
        <p:sp>
          <p:nvSpPr>
            <p:cNvPr id="323" name=""/>
            <p:cNvSpPr/>
            <p:nvPr/>
          </p:nvSpPr>
          <p:spPr>
            <a:xfrm>
              <a:off x="533160" y="2209680"/>
              <a:ext cx="990360" cy="685800"/>
            </a:xfrm>
            <a:prstGeom prst="rightArrowCallout">
              <a:avLst>
                <a:gd name="adj1" fmla="val 25002"/>
                <a:gd name="adj2" fmla="val 25000"/>
                <a:gd name="adj3" fmla="val 24068"/>
                <a:gd name="adj4" fmla="val 66667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920" y="1828800"/>
              <a:ext cx="1142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1940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332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212920" y="40384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510552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-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-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54100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04920" y="1828800"/>
            <a:ext cx="1218600" cy="1312920"/>
            <a:chOff x="304920" y="1828800"/>
            <a:chExt cx="1218600" cy="1312920"/>
          </a:xfrm>
        </p:grpSpPr>
        <p:sp>
          <p:nvSpPr>
            <p:cNvPr id="351" name=""/>
            <p:cNvSpPr/>
            <p:nvPr/>
          </p:nvSpPr>
          <p:spPr>
            <a:xfrm>
              <a:off x="533160" y="2209680"/>
              <a:ext cx="990360" cy="685800"/>
            </a:xfrm>
            <a:prstGeom prst="rightArrowCallout">
              <a:avLst>
                <a:gd name="adj1" fmla="val 25002"/>
                <a:gd name="adj2" fmla="val 25000"/>
                <a:gd name="adj3" fmla="val 24068"/>
                <a:gd name="adj4" fmla="val 66667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920" y="1828800"/>
              <a:ext cx="1142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696080" y="1828800"/>
            <a:ext cx="1371600" cy="1312920"/>
            <a:chOff x="7696080" y="1828800"/>
            <a:chExt cx="1371600" cy="1312920"/>
          </a:xfrm>
        </p:grpSpPr>
        <p:sp>
          <p:nvSpPr>
            <p:cNvPr id="354" name=""/>
            <p:cNvSpPr/>
            <p:nvPr/>
          </p:nvSpPr>
          <p:spPr>
            <a:xfrm>
              <a:off x="7696080" y="2286000"/>
              <a:ext cx="1066680" cy="685800"/>
            </a:xfrm>
            <a:prstGeom prst="leftArrowCallout">
              <a:avLst>
                <a:gd name="adj1" fmla="val 25002"/>
                <a:gd name="adj2" fmla="val 25000"/>
                <a:gd name="adj3" fmla="val 25923"/>
                <a:gd name="adj4" fmla="val 66673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182880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316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  <a:ea typeface="黑体"/>
              </a:rPr>
              <a:t>归纳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等式的性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等式两边同加（或同减）同一个数（或式子），结果仍相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3860640"/>
            <a:ext cx="705816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如果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=b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，那么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+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=b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+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1940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365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366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362320" y="44956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0574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388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389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362320" y="402264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81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49528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2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2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2860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414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415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286000" y="396252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1814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3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67652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442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443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6000" y="388620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22860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182880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2133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2057400"/>
            <a:ext cx="1143000" cy="838080"/>
          </a:xfrm>
          <a:prstGeom prst="rightArrowCallout">
            <a:avLst>
              <a:gd name="adj1" fmla="val 25002"/>
              <a:gd name="adj2" fmla="val 25000"/>
              <a:gd name="adj3" fmla="val 22731"/>
              <a:gd name="adj4" fmla="val 66667"/>
            </a:avLst>
          </a:prstGeom>
          <a:solidFill>
            <a:srgbClr val="ffffff"/>
          </a:soli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0120" y="2057400"/>
            <a:ext cx="1218960" cy="838080"/>
          </a:xfrm>
          <a:prstGeom prst="leftArrowCallout">
            <a:avLst>
              <a:gd name="adj1" fmla="val 25002"/>
              <a:gd name="adj2" fmla="val 25000"/>
              <a:gd name="adj3" fmla="val 24241"/>
              <a:gd name="adj4" fmla="val 66673"/>
            </a:avLst>
          </a:prstGeom>
          <a:solidFill>
            <a:srgbClr val="ffffff"/>
          </a:soli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51814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209680" y="190512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00800" y="1981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447920" y="1295280"/>
            <a:ext cx="6172200" cy="2666520"/>
            <a:chOff x="1447920" y="1295280"/>
            <a:chExt cx="6172200" cy="2666520"/>
          </a:xfrm>
        </p:grpSpPr>
        <p:grpSp>
          <p:nvGrpSpPr>
            <p:cNvPr id="480" name=""/>
            <p:cNvGrpSpPr/>
            <p:nvPr/>
          </p:nvGrpSpPr>
          <p:grpSpPr>
            <a:xfrm>
              <a:off x="3733920" y="1295280"/>
              <a:ext cx="1371600" cy="2208240"/>
              <a:chOff x="3733920" y="1295280"/>
              <a:chExt cx="1371600" cy="2208240"/>
            </a:xfrm>
          </p:grpSpPr>
          <p:sp>
            <p:nvSpPr>
              <p:cNvPr id="481" name=""/>
              <p:cNvSpPr/>
              <p:nvPr/>
            </p:nvSpPr>
            <p:spPr>
              <a:xfrm rot="10789200">
                <a:off x="4341240" y="136944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33920" y="129528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4462560" y="138528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267440" y="304776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24080" y="243828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00800" y="243828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236196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10040" y="297180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800000">
              <a:off x="1752480" y="373320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0800000">
              <a:off x="5334120" y="373320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38640" y="350496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7920" y="236196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86000" y="34894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2286000" y="487692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42670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29200" y="4622760"/>
            <a:ext cx="1908000" cy="22352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7164360" y="5334120"/>
            <a:ext cx="167472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算一算，试一试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能否用估算法求出下列方程的解：（学生不用笔算，只能估算）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4x=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x +1=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46x=2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) 2500+900x = 15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2060640"/>
            <a:ext cx="89154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式的性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式两边都乘以同一个数，或都除以同一个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不为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的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结果仍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4076280"/>
            <a:ext cx="756108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如果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=b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，那么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=bc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；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如果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=b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 ≠ 0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），那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940360" y="47242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906480" y="1052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3880" y="685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下面的括号内填上适当的数或者代数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276720" y="5410080"/>
            <a:ext cx="1752480" cy="927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7010280" y="3200400"/>
            <a:ext cx="498600" cy="7621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1447920" cy="142560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0" y="0"/>
            <a:ext cx="3176640" cy="757080"/>
            <a:chOff x="0" y="0"/>
            <a:chExt cx="3176640" cy="757080"/>
          </a:xfrm>
        </p:grpSpPr>
        <p:sp>
          <p:nvSpPr>
            <p:cNvPr id="513" name=""/>
            <p:cNvSpPr/>
            <p:nvPr/>
          </p:nvSpPr>
          <p:spPr>
            <a:xfrm>
              <a:off x="439560" y="504720"/>
              <a:ext cx="2098800" cy="252360"/>
            </a:xfrm>
            <a:prstGeom prst="rect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40080" y="504720"/>
              <a:ext cx="592200" cy="25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0" y="0"/>
              <a:ext cx="655200" cy="720360"/>
              <a:chOff x="0" y="0"/>
              <a:chExt cx="655200" cy="72036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64600"/>
                <a:ext cx="455760" cy="4557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480" y="289440"/>
                <a:ext cx="407880" cy="406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12480"/>
                <a:ext cx="384840" cy="383040"/>
              </a:xfrm>
              <a:prstGeom prst="rect">
                <a:avLst/>
              </a:prstGeom>
              <a:solidFill>
                <a:srgbClr val="00ba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>
                <a:off x="0" y="0"/>
                <a:ext cx="20952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47880" y="0"/>
                <a:ext cx="20952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96480" y="0"/>
                <a:ext cx="20808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>
                <a:off x="144360" y="0"/>
                <a:ext cx="20808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192240" y="0"/>
                <a:ext cx="20988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240120" y="0"/>
                <a:ext cx="20952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>
                <a:off x="288000" y="0"/>
                <a:ext cx="20952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>
                <a:off x="336960" y="0"/>
                <a:ext cx="20988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>
                <a:off x="384840" y="0"/>
                <a:ext cx="20952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>
                <a:off x="432720" y="0"/>
                <a:ext cx="208080" cy="2401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>
                <a:off x="480240" y="4896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480240" y="9648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>
                <a:off x="480240" y="14472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未知"/>
              <p:cNvSpPr/>
              <p:nvPr/>
            </p:nvSpPr>
            <p:spPr>
              <a:xfrm>
                <a:off x="480240" y="192240"/>
                <a:ext cx="174960" cy="24048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未知"/>
              <p:cNvSpPr/>
              <p:nvPr/>
            </p:nvSpPr>
            <p:spPr>
              <a:xfrm>
                <a:off x="480240" y="24012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480240" y="28944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未知"/>
              <p:cNvSpPr/>
              <p:nvPr/>
            </p:nvSpPr>
            <p:spPr>
              <a:xfrm>
                <a:off x="480240" y="33696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480240" y="38340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>
                <a:off x="480240" y="43092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>
                <a:off x="480240" y="479160"/>
                <a:ext cx="174960" cy="2401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41520" y="79200"/>
              <a:ext cx="2535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72480" y="-30960"/>
            <a:ext cx="2672280" cy="905040"/>
            <a:chOff x="672480" y="-30960"/>
            <a:chExt cx="2672280" cy="905040"/>
          </a:xfrm>
        </p:grpSpPr>
        <p:sp>
          <p:nvSpPr>
            <p:cNvPr id="541" name=""/>
            <p:cNvSpPr/>
            <p:nvPr/>
          </p:nvSpPr>
          <p:spPr>
            <a:xfrm>
              <a:off x="1125360" y="515880"/>
              <a:ext cx="1689120" cy="2350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41360" y="0"/>
              <a:ext cx="200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72480" y="-30960"/>
              <a:ext cx="857520" cy="905040"/>
              <a:chOff x="672480" y="-30960"/>
              <a:chExt cx="857520" cy="905040"/>
            </a:xfrm>
          </p:grpSpPr>
          <p:sp>
            <p:nvSpPr>
              <p:cNvPr id="544" name=""/>
              <p:cNvSpPr/>
              <p:nvPr/>
            </p:nvSpPr>
            <p:spPr>
              <a:xfrm rot="3297000">
                <a:off x="726840" y="161640"/>
                <a:ext cx="741240" cy="519120"/>
              </a:xfrm>
              <a:prstGeom prst="ellipse">
                <a:avLst/>
              </a:prstGeom>
              <a:solidFill>
                <a:srgbClr val="b1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4"/>
              <a:stretch/>
            </p:blipFill>
            <p:spPr>
              <a:xfrm rot="2784000">
                <a:off x="772560" y="168840"/>
                <a:ext cx="677880" cy="50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6" name=""/>
          <p:cNvSpPr/>
          <p:nvPr/>
        </p:nvSpPr>
        <p:spPr>
          <a:xfrm>
            <a:off x="0" y="185760"/>
            <a:ext cx="7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2205000"/>
            <a:ext cx="7729560" cy="1984320"/>
            <a:chOff x="324000" y="2205000"/>
            <a:chExt cx="7729560" cy="1984320"/>
          </a:xfrm>
        </p:grpSpPr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1847880" y="2205000"/>
              <a:ext cx="6205680" cy="198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9" name=""/>
            <p:cNvGrpSpPr/>
            <p:nvPr/>
          </p:nvGrpSpPr>
          <p:grpSpPr>
            <a:xfrm>
              <a:off x="324000" y="2208240"/>
              <a:ext cx="1752480" cy="1770120"/>
              <a:chOff x="324000" y="2208240"/>
              <a:chExt cx="1752480" cy="1770120"/>
            </a:xfrm>
          </p:grpSpPr>
          <p:sp>
            <p:nvSpPr>
              <p:cNvPr id="550" name=""/>
              <p:cNvSpPr/>
              <p:nvPr/>
            </p:nvSpPr>
            <p:spPr>
              <a:xfrm>
                <a:off x="324000" y="220824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）由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4880" y="327492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可得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43000" y="4498920"/>
            <a:ext cx="8086680" cy="1978200"/>
            <a:chOff x="243000" y="4498920"/>
            <a:chExt cx="8086680" cy="1978200"/>
          </a:xfrm>
        </p:grpSpPr>
        <p:pic>
          <p:nvPicPr>
            <p:cNvPr id="553" name="" descr=""/>
            <p:cNvPicPr/>
            <p:nvPr/>
          </p:nvPicPr>
          <p:blipFill>
            <a:blip r:embed="rId6"/>
            <a:stretch/>
          </p:blipFill>
          <p:spPr>
            <a:xfrm>
              <a:off x="1673280" y="4525920"/>
              <a:ext cx="6656400" cy="195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4" name=""/>
            <p:cNvGrpSpPr/>
            <p:nvPr/>
          </p:nvGrpSpPr>
          <p:grpSpPr>
            <a:xfrm>
              <a:off x="243000" y="4498920"/>
              <a:ext cx="1752480" cy="1770120"/>
              <a:chOff x="243000" y="4498920"/>
              <a:chExt cx="1752480" cy="1770120"/>
            </a:xfrm>
          </p:grpSpPr>
          <p:sp>
            <p:nvSpPr>
              <p:cNvPr id="555" name=""/>
              <p:cNvSpPr/>
              <p:nvPr/>
            </p:nvSpPr>
            <p:spPr>
              <a:xfrm>
                <a:off x="243000" y="449892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）由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23880" y="556560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</a:rPr>
                  <a:t>可得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学以致用：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口答下面各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16000" y="198900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能否得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+5=y+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为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能否得到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+2=b+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能否得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=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为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3a=-3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能否得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=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为什么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5076720" y="328464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76720" y="321300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153680" y="2852640"/>
            <a:ext cx="1100160" cy="941760"/>
            <a:chOff x="4153680" y="2852640"/>
            <a:chExt cx="1100160" cy="941760"/>
          </a:xfrm>
        </p:grpSpPr>
        <p:sp>
          <p:nvSpPr>
            <p:cNvPr id="563" name=""/>
            <p:cNvSpPr/>
            <p:nvPr/>
          </p:nvSpPr>
          <p:spPr>
            <a:xfrm>
              <a:off x="4500720" y="2852640"/>
              <a:ext cx="38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53680" y="3213000"/>
              <a:ext cx="11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784040" y="2708280"/>
            <a:ext cx="1117440" cy="1173600"/>
            <a:chOff x="4784040" y="2708280"/>
            <a:chExt cx="1117440" cy="1173600"/>
          </a:xfrm>
        </p:grpSpPr>
        <p:sp>
          <p:nvSpPr>
            <p:cNvPr id="566" name=""/>
            <p:cNvSpPr/>
            <p:nvPr/>
          </p:nvSpPr>
          <p:spPr>
            <a:xfrm>
              <a:off x="4784040" y="2708280"/>
              <a:ext cx="107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76720" y="30132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-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92720" y="3444840"/>
              <a:ext cx="287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01320" y="3300480"/>
              <a:ext cx="11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利用等式性质解下列方程：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+7=26          (2)-4=x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611280" y="2997360"/>
            <a:ext cx="3671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解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两边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得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+7-7=26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11640" y="3068640"/>
            <a:ext cx="5165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两边同时加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得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+6=x-6+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-5=6         (2)  x+4=9        (3) y+7=-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练习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、利用等式性质解下列方程：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巩固等式的性质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412560" y="2882880"/>
            <a:ext cx="3035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(1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同加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5+5=6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11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28480" y="2852640"/>
            <a:ext cx="2878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(2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同减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+4-4=9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39840" y="497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8120" y="2781360"/>
            <a:ext cx="2878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(3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同减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+7-7=-1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8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4.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、利用等式性质解下列方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420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5x=20                 (2)   = 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161680" y="1773360"/>
            <a:ext cx="1100160" cy="1084680"/>
            <a:chOff x="5161680" y="1773360"/>
            <a:chExt cx="1100160" cy="1084680"/>
          </a:xfrm>
        </p:grpSpPr>
        <p:sp>
          <p:nvSpPr>
            <p:cNvPr id="585" name=""/>
            <p:cNvSpPr/>
            <p:nvPr/>
          </p:nvSpPr>
          <p:spPr>
            <a:xfrm>
              <a:off x="5508720" y="1773360"/>
              <a:ext cx="51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08720" y="1844640"/>
              <a:ext cx="57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61680" y="2276640"/>
              <a:ext cx="11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06240" y="3141720"/>
            <a:ext cx="3787560" cy="2348280"/>
            <a:chOff x="606240" y="3141720"/>
            <a:chExt cx="3787560" cy="2348280"/>
          </a:xfrm>
        </p:grpSpPr>
        <p:sp>
          <p:nvSpPr>
            <p:cNvPr id="589" name=""/>
            <p:cNvSpPr/>
            <p:nvPr/>
          </p:nvSpPr>
          <p:spPr>
            <a:xfrm>
              <a:off x="606240" y="3141720"/>
              <a:ext cx="3787560" cy="23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解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: (1)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两边同除以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-5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得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于是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x= 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70760" y="3573360"/>
              <a:ext cx="14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-5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31640" y="357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20520" y="3933720"/>
              <a:ext cx="123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71920" y="3502080"/>
              <a:ext cx="13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74520" y="3573360"/>
              <a:ext cx="10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50920" y="4005360"/>
              <a:ext cx="55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26320" y="3141720"/>
            <a:ext cx="3332520" cy="2348280"/>
            <a:chOff x="5026320" y="3141720"/>
            <a:chExt cx="3332520" cy="2348280"/>
          </a:xfrm>
        </p:grpSpPr>
        <p:sp>
          <p:nvSpPr>
            <p:cNvPr id="597" name=""/>
            <p:cNvSpPr/>
            <p:nvPr/>
          </p:nvSpPr>
          <p:spPr>
            <a:xfrm>
              <a:off x="5026320" y="3141720"/>
              <a:ext cx="3332520" cy="23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两边同时乘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得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x3=-1x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于是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y= 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5469480" y="3517920"/>
              <a:ext cx="1100160" cy="1084680"/>
              <a:chOff x="5469480" y="3517920"/>
              <a:chExt cx="1100160" cy="1084680"/>
            </a:xfrm>
          </p:grpSpPr>
          <p:sp>
            <p:nvSpPr>
              <p:cNvPr id="599" name=""/>
              <p:cNvSpPr/>
              <p:nvPr/>
            </p:nvSpPr>
            <p:spPr>
              <a:xfrm>
                <a:off x="5816520" y="3517920"/>
                <a:ext cx="515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16520" y="3589200"/>
                <a:ext cx="574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69480" y="4021200"/>
                <a:ext cx="110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练习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、利用等式性质解下列方程：（巩固等式的性质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y=-2         (2)-0.3x=12        (3)- y =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141720"/>
            <a:ext cx="25560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除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8960" y="3789360"/>
            <a:ext cx="1275480" cy="891360"/>
            <a:chOff x="48960" y="3789360"/>
            <a:chExt cx="1275480" cy="891360"/>
          </a:xfrm>
        </p:grpSpPr>
        <p:sp>
          <p:nvSpPr>
            <p:cNvPr id="606" name=""/>
            <p:cNvSpPr/>
            <p:nvPr/>
          </p:nvSpPr>
          <p:spPr>
            <a:xfrm>
              <a:off x="48960" y="3819600"/>
              <a:ext cx="11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4680" y="3789360"/>
              <a:ext cx="12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8360" y="422100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77960" y="3789360"/>
            <a:ext cx="1267200" cy="891360"/>
            <a:chOff x="777960" y="3789360"/>
            <a:chExt cx="1267200" cy="891360"/>
          </a:xfrm>
        </p:grpSpPr>
        <p:sp>
          <p:nvSpPr>
            <p:cNvPr id="610" name=""/>
            <p:cNvSpPr/>
            <p:nvPr/>
          </p:nvSpPr>
          <p:spPr>
            <a:xfrm>
              <a:off x="777960" y="3819600"/>
              <a:ext cx="11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5400" y="3789360"/>
              <a:ext cx="12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400" y="4221000"/>
              <a:ext cx="10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958320" y="4797360"/>
            <a:ext cx="1229760" cy="891360"/>
            <a:chOff x="958320" y="4797360"/>
            <a:chExt cx="1229760" cy="891360"/>
          </a:xfrm>
        </p:grpSpPr>
        <p:sp>
          <p:nvSpPr>
            <p:cNvPr id="614" name=""/>
            <p:cNvSpPr/>
            <p:nvPr/>
          </p:nvSpPr>
          <p:spPr>
            <a:xfrm>
              <a:off x="993960" y="4825800"/>
              <a:ext cx="11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58320" y="4797360"/>
              <a:ext cx="12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58400" y="5229000"/>
              <a:ext cx="10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771640" y="3068640"/>
            <a:ext cx="36007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除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645640" y="3716280"/>
            <a:ext cx="1690560" cy="993240"/>
            <a:chOff x="2645640" y="3716280"/>
            <a:chExt cx="1690560" cy="993240"/>
          </a:xfrm>
        </p:grpSpPr>
        <p:sp>
          <p:nvSpPr>
            <p:cNvPr id="619" name=""/>
            <p:cNvSpPr/>
            <p:nvPr/>
          </p:nvSpPr>
          <p:spPr>
            <a:xfrm>
              <a:off x="2795400" y="4249800"/>
              <a:ext cx="13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0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25360" y="3716280"/>
              <a:ext cx="141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45640" y="374472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0.3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934800" y="3789360"/>
            <a:ext cx="1214280" cy="861480"/>
            <a:chOff x="3934800" y="3789360"/>
            <a:chExt cx="1214280" cy="861480"/>
          </a:xfrm>
        </p:grpSpPr>
        <p:sp>
          <p:nvSpPr>
            <p:cNvPr id="623" name=""/>
            <p:cNvSpPr/>
            <p:nvPr/>
          </p:nvSpPr>
          <p:spPr>
            <a:xfrm>
              <a:off x="3934800" y="37893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83280" y="3832200"/>
              <a:ext cx="5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67280" y="419112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0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5531040" y="3141720"/>
            <a:ext cx="26287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边除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得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于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817960" y="3860640"/>
            <a:ext cx="1138320" cy="939960"/>
            <a:chOff x="5817960" y="3860640"/>
            <a:chExt cx="1138320" cy="939960"/>
          </a:xfrm>
        </p:grpSpPr>
        <p:sp>
          <p:nvSpPr>
            <p:cNvPr id="628" name=""/>
            <p:cNvSpPr/>
            <p:nvPr/>
          </p:nvSpPr>
          <p:spPr>
            <a:xfrm>
              <a:off x="5820120" y="3860640"/>
              <a:ext cx="111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17960" y="4292280"/>
              <a:ext cx="11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84720" y="421884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6792480" y="3789360"/>
            <a:ext cx="1277640" cy="920160"/>
            <a:chOff x="6792480" y="3789360"/>
            <a:chExt cx="1277640" cy="920160"/>
          </a:xfrm>
        </p:grpSpPr>
        <p:sp>
          <p:nvSpPr>
            <p:cNvPr id="632" name=""/>
            <p:cNvSpPr/>
            <p:nvPr/>
          </p:nvSpPr>
          <p:spPr>
            <a:xfrm>
              <a:off x="6855840" y="386064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92480" y="3789360"/>
              <a:ext cx="12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29560" y="4249800"/>
              <a:ext cx="11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本节课你学到了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31896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004bb"/>
                </a:solidFill>
                <a:latin typeface="Tahoma"/>
                <a:ea typeface="华文行楷"/>
              </a:rPr>
              <a:t>课堂小结</a:t>
            </a:r>
            <a:r>
              <a:rPr b="1" lang="en-US" sz="4400" spc="-1" strike="noStrike">
                <a:solidFill>
                  <a:srgbClr val="e004bb"/>
                </a:solidFill>
                <a:latin typeface="Tahoma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1280" y="184464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等式的性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43657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等式性质的应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0920" y="2421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等式两边加（或减）同一个数（或式子），结果仍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3357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式的两边乘同一个数，或除以同一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所的结果仍相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4000" y="4869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等式的性质解方程，就是把方程变形， 变为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 = 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常数）的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447920" y="19810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Book Antiqua"/>
                <a:ea typeface="黑体"/>
              </a:rPr>
              <a:t>习 题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3</a:t>
            </a:r>
            <a:r>
              <a:rPr b="1" lang="en-US" sz="4800" spc="-1" strike="noStrike">
                <a:solidFill>
                  <a:srgbClr val="ff0066"/>
                </a:solidFill>
                <a:latin typeface="Book Antiqua"/>
                <a:ea typeface="黑体"/>
              </a:rPr>
              <a:t>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4559400" y="4029120"/>
            <a:ext cx="4584600" cy="28288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457200" y="3048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8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页第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3429000" y="1128600"/>
            <a:ext cx="1143000" cy="53352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1066680" y="990720"/>
            <a:ext cx="2362320" cy="825120"/>
            <a:chOff x="1066680" y="990720"/>
            <a:chExt cx="2362320" cy="825120"/>
          </a:xfrm>
        </p:grpSpPr>
        <p:sp>
          <p:nvSpPr>
            <p:cNvPr id="647" name=""/>
            <p:cNvSpPr/>
            <p:nvPr/>
          </p:nvSpPr>
          <p:spPr>
            <a:xfrm>
              <a:off x="1218960" y="1066680"/>
              <a:ext cx="2133720" cy="594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66680" y="990720"/>
              <a:ext cx="2362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Arial"/>
                </a:rPr>
                <a:t>◣   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00200" y="990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  <a:ea typeface="华文彩云"/>
                </a:rPr>
                <a:t>巩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97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华文彩云"/>
                <a:ea typeface="华文彩云"/>
              </a:rPr>
              <a:t>作 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1905120"/>
            <a:ext cx="4344840" cy="1076040"/>
            <a:chOff x="0" y="1905120"/>
            <a:chExt cx="4344840" cy="1076040"/>
          </a:xfrm>
        </p:grpSpPr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8276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1371600" y="2742840"/>
              <a:ext cx="2973240" cy="207720"/>
            </a:xfrm>
            <a:prstGeom prst="pie">
              <a:avLst/>
            </a:prstGeom>
            <a:solidFill>
              <a:srgbClr val="00c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4920" y="76212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920" y="914400"/>
            <a:ext cx="693396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4920" y="1066680"/>
            <a:ext cx="5790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228600"/>
            <a:ext cx="0" cy="6477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228600"/>
            <a:ext cx="0" cy="58672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38080" y="228600"/>
            <a:ext cx="0" cy="541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340000" y="2781360"/>
            <a:ext cx="36576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再见</a:t>
            </a:r>
            <a:endParaRPr b="0" lang="en-US" sz="72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121120" cy="60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2075040" cy="58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9780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像这样用等号“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=”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表示相等关系的式子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等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943600" y="228600"/>
            <a:ext cx="3009960" cy="1523520"/>
            <a:chOff x="5943600" y="228600"/>
            <a:chExt cx="3009960" cy="15235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238880" y="316080"/>
              <a:ext cx="171468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5943600" y="228600"/>
              <a:ext cx="1295280" cy="1523520"/>
              <a:chOff x="5943600" y="228600"/>
              <a:chExt cx="1295280" cy="1523520"/>
            </a:xfrm>
          </p:grpSpPr>
          <p:sp>
            <p:nvSpPr>
              <p:cNvPr id="107" name=""/>
              <p:cNvSpPr/>
              <p:nvPr/>
            </p:nvSpPr>
            <p:spPr>
              <a:xfrm>
                <a:off x="5943600" y="228600"/>
                <a:ext cx="126576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57640" y="285840"/>
                <a:ext cx="12812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095880" y="411120"/>
              <a:ext cx="10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知识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准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20" y="0"/>
            <a:ext cx="1066680" cy="17683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403280" y="0"/>
            <a:ext cx="2895480" cy="1676520"/>
            <a:chOff x="1403280" y="0"/>
            <a:chExt cx="2895480" cy="1676520"/>
          </a:xfrm>
        </p:grpSpPr>
        <p:sp>
          <p:nvSpPr>
            <p:cNvPr id="112" name=""/>
            <p:cNvSpPr/>
            <p:nvPr/>
          </p:nvSpPr>
          <p:spPr>
            <a:xfrm>
              <a:off x="1403280" y="0"/>
              <a:ext cx="2743200" cy="1676520"/>
            </a:xfrm>
            <a:prstGeom prst="irregularSeal1">
              <a:avLst/>
            </a:prstGeom>
            <a:solidFill>
              <a:srgbClr val="ffcf01"/>
            </a:solidFill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79600" y="5014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什么是等式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476360" y="2708280"/>
            <a:ext cx="285264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00800" y="2276640"/>
            <a:ext cx="4032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33920" y="1676520"/>
            <a:ext cx="1371600" cy="2208240"/>
            <a:chOff x="3733920" y="1676520"/>
            <a:chExt cx="1371600" cy="2208240"/>
          </a:xfrm>
        </p:grpSpPr>
        <p:sp>
          <p:nvSpPr>
            <p:cNvPr id="117" name=""/>
            <p:cNvSpPr/>
            <p:nvPr/>
          </p:nvSpPr>
          <p:spPr>
            <a:xfrm rot="10789200">
              <a:off x="4341240" y="1750680"/>
              <a:ext cx="230040" cy="2133720"/>
            </a:xfrm>
            <a:custGeom>
              <a:avLst/>
              <a:gdLst>
                <a:gd name="textAreaLeft" fmla="*/ 50400 w 230040"/>
                <a:gd name="textAreaRight" fmla="*/ 179640 w 230040"/>
                <a:gd name="textAreaTop" fmla="*/ 469080 h 2133720"/>
                <a:gd name="textAreaBottom" fmla="*/ 166464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1676520"/>
              <a:ext cx="1371600" cy="838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62560" y="1766520"/>
              <a:ext cx="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408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8195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81952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35268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36450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80980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0"/>
            <a:ext cx="8819640" cy="1828440"/>
            <a:chOff x="0" y="0"/>
            <a:chExt cx="8819640" cy="18284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312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63640" y="731160"/>
              <a:ext cx="70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自主探索：</a:t>
              </a:r>
              <a:r>
                <a:rPr b="0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0789200">
            <a:off x="4341240" y="1750680"/>
            <a:ext cx="230040" cy="2133720"/>
          </a:xfrm>
          <a:custGeom>
            <a:avLst/>
            <a:gdLst>
              <a:gd name="textAreaLeft" fmla="*/ 50400 w 230040"/>
              <a:gd name="textAreaRight" fmla="*/ 179640 w 23004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676520"/>
            <a:ext cx="1371600" cy="838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70120" y="1785960"/>
            <a:ext cx="174960" cy="1666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7040" y="263376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5480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301932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0052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360000">
            <a:off x="2209680" y="335232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4304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10789200">
            <a:off x="4341240" y="1750680"/>
            <a:ext cx="230040" cy="2133720"/>
          </a:xfrm>
          <a:custGeom>
            <a:avLst/>
            <a:gdLst>
              <a:gd name="textAreaLeft" fmla="*/ 50400 w 230040"/>
              <a:gd name="textAreaRight" fmla="*/ 179640 w 23004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1371600" cy="838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02880" y="1764720"/>
            <a:ext cx="290880" cy="165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7432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3160" y="24382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53280" y="31240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1240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600000">
            <a:off x="2195280" y="3357720"/>
            <a:ext cx="457200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357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4382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1844640"/>
            <a:ext cx="27000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1940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178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179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362320" y="44956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19400" y="2286000"/>
            <a:ext cx="30456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47920" y="1676520"/>
            <a:ext cx="6172200" cy="2666520"/>
            <a:chOff x="1447920" y="1676520"/>
            <a:chExt cx="6172200" cy="2666520"/>
          </a:xfrm>
        </p:grpSpPr>
        <p:grpSp>
          <p:nvGrpSpPr>
            <p:cNvPr id="201" name=""/>
            <p:cNvGrpSpPr/>
            <p:nvPr/>
          </p:nvGrpSpPr>
          <p:grpSpPr>
            <a:xfrm>
              <a:off x="3733920" y="1676520"/>
              <a:ext cx="1371600" cy="2208240"/>
              <a:chOff x="3733920" y="1676520"/>
              <a:chExt cx="1371600" cy="2208240"/>
            </a:xfrm>
          </p:grpSpPr>
          <p:sp>
            <p:nvSpPr>
              <p:cNvPr id="202" name=""/>
              <p:cNvSpPr/>
              <p:nvPr/>
            </p:nvSpPr>
            <p:spPr>
              <a:xfrm rot="10789200">
                <a:off x="4341240" y="1750680"/>
                <a:ext cx="230040" cy="2133720"/>
              </a:xfrm>
              <a:custGeom>
                <a:avLst/>
                <a:gdLst>
                  <a:gd name="textAreaLeft" fmla="*/ 50400 w 230040"/>
                  <a:gd name="textAreaRight" fmla="*/ 179640 w 23004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392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462560" y="176652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267440" y="3429000"/>
              <a:ext cx="380880" cy="4572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408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2819520"/>
              <a:ext cx="381240" cy="685800"/>
            </a:xfrm>
            <a:prstGeom prst="triangle">
              <a:avLst>
                <a:gd name="adj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10040" y="3353040"/>
              <a:ext cx="457200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752480" y="4114440"/>
              <a:ext cx="1904760" cy="228600"/>
            </a:xfrm>
            <a:custGeom>
              <a:avLst/>
              <a:gdLst>
                <a:gd name="textAreaLeft" fmla="*/ 418680 w 1904760"/>
                <a:gd name="textAreaRight" fmla="*/ 1486080 w 190476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5334120" y="4114440"/>
              <a:ext cx="1905120" cy="228600"/>
            </a:xfrm>
            <a:custGeom>
              <a:avLst/>
              <a:gdLst>
                <a:gd name="textAreaLeft" fmla="*/ 418680 w 1905120"/>
                <a:gd name="textAreaRight" fmla="*/ 1486440 w 19051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8640" y="3886200"/>
              <a:ext cx="3962160" cy="2286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7920" y="2743200"/>
              <a:ext cx="2057400" cy="22860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362320" y="44956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989000"/>
            <a:ext cx="4651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00800" y="2057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2666880"/>
            <a:ext cx="4572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66920" y="2666880"/>
            <a:ext cx="3049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789200">
            <a:off x="4341240" y="1750680"/>
            <a:ext cx="230040" cy="2133720"/>
          </a:xfrm>
          <a:custGeom>
            <a:avLst/>
            <a:gdLst>
              <a:gd name="textAreaLeft" fmla="*/ 50400 w 230040"/>
              <a:gd name="textAreaRight" fmla="*/ 179640 w 23004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1676520"/>
            <a:ext cx="1371600" cy="838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140720" y="1764720"/>
            <a:ext cx="290880" cy="165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429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57560" y="31240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7960" y="2438280"/>
            <a:ext cx="380880" cy="68580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24382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000000">
            <a:off x="2209680" y="3352680"/>
            <a:ext cx="457200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752480" y="4114440"/>
            <a:ext cx="1905120" cy="2286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5333760" y="4114440"/>
            <a:ext cx="1904760" cy="22860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3886200"/>
            <a:ext cx="3962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3124080"/>
            <a:ext cx="2057400" cy="228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5334120" cy="1676160"/>
            <a:chOff x="0" y="0"/>
            <a:chExt cx="5334120" cy="16761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809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66680" y="67032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362320" y="44956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0099ff"/>
                </a:solidFill>
                <a:latin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3962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9:09:07Z</dcterms:created>
  <dc:creator/>
  <dc:description/>
  <cp:keywords/>
  <dc:language>en-US</dc:language>
  <cp:lastModifiedBy>微软用户</cp:lastModifiedBy>
  <dcterms:modified xsi:type="dcterms:W3CDTF">2014-06-30T01:11:07Z</dcterms:modified>
  <cp:revision>1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22090000000000010250600207f7000400038000</vt:lpwstr>
  </property>
</Properties>
</file>